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3DD73-6776-4904-A178-13F325DE9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5976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68600"/>
            <a:ext cx="905976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8D1DD-8F0B-4ABE-B39C-DF450313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54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54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F2D9B-5470-4AB0-9694-C8AB0F9BB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796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9760" y="176796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6860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6860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9760" y="436860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D803D-E167-4FE0-B5B0-8A6694DFA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BD872-E645-4F82-A15B-E4E5893CE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5976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D6412-3A25-43E5-AD97-D013C9C14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54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C3F22-FE60-43EE-91E7-416AC69E9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6F6E-D082-43F1-AF0B-F7F29618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59760" cy="5800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ABA19-7B9D-47C9-8903-DD6B62741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54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BF61-F062-4F26-85B3-185BB6E3B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54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54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13EE3-6AE8-4AC3-B9D3-412211C42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54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68600"/>
            <a:ext cx="905976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DA13D-2925-49F5-ABB2-C5DCE26F6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59760" cy="49784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6760" cy="5097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84560" cy="5097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37120" cy="5097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6F8DC5-CD66-4DBE-ADC4-9D1C53B020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evolutionary-war-and-beyond.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14600" y="2743200"/>
            <a:ext cx="5943600" cy="114300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A story of Samuel Adams </a:t>
            </a:r>
            <a:endParaRPr b="0" lang="en-US" sz="3600" spc="-1" strike="noStrike">
              <a:solidFill>
                <a:srgbClr val="000000"/>
              </a:solidFill>
              <a:latin typeface="Arial"/>
            </a:endParaRPr>
          </a:p>
        </p:txBody>
      </p:sp>
      <p:pic>
        <p:nvPicPr>
          <p:cNvPr id="42" name="" descr=""/>
          <p:cNvPicPr/>
          <p:nvPr/>
        </p:nvPicPr>
        <p:blipFill>
          <a:blip r:embed="rId1"/>
          <a:stretch/>
        </p:blipFill>
        <p:spPr>
          <a:xfrm>
            <a:off x="4800600" y="4114800"/>
            <a:ext cx="4952880" cy="3200400"/>
          </a:xfrm>
          <a:prstGeom prst="rect">
            <a:avLst/>
          </a:prstGeom>
          <a:ln w="0">
            <a:noFill/>
          </a:ln>
        </p:spPr>
      </p:pic>
      <p:sp>
        <p:nvSpPr>
          <p:cNvPr id="43" name=""/>
          <p:cNvSpPr/>
          <p:nvPr/>
        </p:nvSpPr>
        <p:spPr>
          <a:xfrm>
            <a:off x="685800" y="3429000"/>
            <a:ext cx="1828800" cy="18288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y:Kaely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228600"/>
            <a:ext cx="9601200" cy="16002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800" spc="-1" strike="noStrike">
                <a:solidFill>
                  <a:srgbClr val="000000"/>
                </a:solidFill>
                <a:latin typeface="Arial"/>
              </a:rPr>
              <a:t>He had 11 siblings and his mother's name is Mary and his father's name is Samuel Adams and he has kids their name's are Samuel and Samantha and Mary  and Joseph and Samuel  and he was married to a beautifully woman and her name was Elizabeth Checkley on October 17,1749 and she died on July 25,1757 but Elizabeth was his first wife and then he got married again to a beautifully pretty nice kind woman and her name was  Elizabeth Wells in 1764 and he did not fight in the war and he help set the Boston Tea party and he had a horse name Goblin. And he sign the Declaration of independence.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228600"/>
            <a:ext cx="9372600" cy="3200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He had 5 kids and he had two girls and he had three boy's and he was very very nice to them and they went to school and the school was near where they lived and they had nice teacher's and they had kind friend's and they made new friend's and they would go outside  and play with their friend's. And he was rich with a lot of money. And his parent's were very sad when he died.</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14400" y="228600"/>
            <a:ext cx="5943600" cy="9144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un Fact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7" name=""/>
          <p:cNvSpPr/>
          <p:nvPr/>
        </p:nvSpPr>
        <p:spPr>
          <a:xfrm>
            <a:off x="1077840" y="797040"/>
            <a:ext cx="6008760" cy="1260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914400" y="1600200"/>
            <a:ext cx="7423200" cy="77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1143000" y="1828800"/>
            <a:ext cx="5715000" cy="712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His cozen was the first president and his name is John Adams.  </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14400" y="228600"/>
            <a:ext cx="5943600" cy="9144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esource</a:t>
            </a:r>
            <a:endParaRPr b="0" lang="en-US" sz="2400" spc="-1" strike="noStrike">
              <a:solidFill>
                <a:srgbClr val="000000"/>
              </a:solidFill>
              <a:latin typeface="Arial"/>
            </a:endParaRPr>
          </a:p>
        </p:txBody>
      </p:sp>
      <p:sp>
        <p:nvSpPr>
          <p:cNvPr id="51" name=""/>
          <p:cNvSpPr/>
          <p:nvPr/>
        </p:nvSpPr>
        <p:spPr>
          <a:xfrm>
            <a:off x="1077840" y="797040"/>
            <a:ext cx="6008760" cy="1260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ttp://autobiography/people/groups/founding-fathers</a:t>
            </a:r>
            <a:endParaRPr b="0" lang="en-US" sz="2400" spc="-1" strike="noStrike">
              <a:solidFill>
                <a:srgbClr val="000000"/>
              </a:solidFill>
              <a:latin typeface="Arial"/>
            </a:endParaRPr>
          </a:p>
        </p:txBody>
      </p:sp>
      <p:sp>
        <p:nvSpPr>
          <p:cNvPr id="52" name=""/>
          <p:cNvSpPr/>
          <p:nvPr/>
        </p:nvSpPr>
        <p:spPr>
          <a:xfrm>
            <a:off x="914400" y="1600200"/>
            <a:ext cx="7423200" cy="770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Arial"/>
                <a:hlinkClick r:id="rId1"/>
              </a:rPr>
              <a:t>http://revolutionary-war-and-beyond.com</a:t>
            </a:r>
            <a:r>
              <a:rPr b="0" lang="en-US" sz="2400" spc="-1" strike="noStrike">
                <a:solidFill>
                  <a:srgbClr val="000000"/>
                </a:solidFill>
                <a:latin typeface="Arial"/>
              </a:rPr>
              <a:t> /Samuel-adams-facts.htm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7:18:09Z</dcterms:created>
  <dc:creator/>
  <dc:description/>
  <dc:language>en-US</dc:language>
  <cp:lastModifiedBy/>
  <cp:revision>1</cp:revision>
  <dc:subject/>
  <dc:title/>
</cp:coreProperties>
</file>